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9979-0CED-4779-9EEF-0493657E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9BA6-4B45-4978-9802-DEE6C2B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BC76-557E-43D0-BF18-2D7E3750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A301-EB44-4EB1-A54D-10C4FC14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4F3-E427-4188-8296-F1A1E4B4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5194-33FE-4EBB-9028-E3EE2590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B62E-D74A-4B1E-8DF6-460D8E4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C03-3B88-4274-B549-0A668A1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E242-9293-4325-B87B-24FF72BB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98CC-50D7-49F0-B91A-30BD9D70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FA6-3463-46C3-9592-A8D42E0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3732-E78B-41C2-8887-4CFC9F75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8EEF-39DF-45B8-BBD1-A9E84C0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F81-2069-4C79-8A51-C576E82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5D18-3A0A-49BC-A159-E2ACD78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83C-DCB9-4257-8579-5FB0043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FA77-C2CC-425B-8DA7-845DB947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54A3-669F-4BF5-9B6E-B347B24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169F-7AFD-46BE-BE6C-ACCEA471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49C7-1851-4F5B-96CB-4549C17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B8A3-1111-4D75-98A3-C6A866D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A23E-624E-4064-B78D-C50C046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9795-E9D4-4A9F-9D82-438F42C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AF00-7200-41AB-AA30-B196C9C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BE1F-0573-4484-BDED-E1081E0F81E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4180-F129-4329-976C-82E8A2A643B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0 (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7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лажен Спасителю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с вяра просим ние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ържи ни Ти с любов в едн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' братя искрен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наш Си Брат люб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еб ние таз хвалб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цял живот ще принесе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ат' братя във молб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Смирен, послуша Т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ний властен зов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нас на служба изпра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братята с любов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Исусе, Господ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ла, сред нас живе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грях ни Ти освобод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братски дух ни вле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1:45Z</dcterms:modified>
  <cp:revision>156</cp:revision>
  <dc:subject/>
  <dc:title>Slide 1</dc:title>
</cp:coreProperties>
</file>